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D3E-D7CD-4329-A7FE-53DF012C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A43-618B-4A5C-AFB1-1A9C159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EA6-7F85-41AF-A26A-D69F3D79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CC5-643A-47B2-9067-CF071C64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C2CA-1212-4563-BF1E-2E54F006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0931-FDA9-4EDF-A3E4-02F91A54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B0F2-CE21-4241-947F-FD1F059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2BC-75EE-4B81-B358-1F04D0D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FDAC-676C-4286-8F41-74FE5C41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3EC7-13A5-440A-99E8-EB5A1D2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652C-0C09-4D65-A655-0C3D906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BA9-5F26-44F1-BF33-F83A6A4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85A2-0243-4B61-9F1A-A02F9C0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3CF-CAEE-465E-9CAE-02A0DB2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0597-B9E6-4F2A-B3FF-B329479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7181-2E87-4ADB-A23F-48B0AD89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71C-5A59-4F1A-A2BD-77617100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AD6-E321-425C-9374-18CB2DA4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53A-9ACE-4E1A-B7CF-2A2CA6F4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D2B-8A8C-43B0-BBCD-D55CECB6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6A2-0880-41D3-B380-336EBC22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17F-8E2E-4FF0-8292-E0CDE4B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F79-88D5-4D05-9773-D921FE00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3E6-4A2D-460C-A8B3-91E3EE36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37C3-E8CC-41D2-A07A-27F20664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3522-5772-4912-9B50-A3244F11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Cyberbullyi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redsafety.org/" TargetMode="External"/><Relationship Id="rId2" Type="http://schemas.openxmlformats.org/officeDocument/2006/relationships/hyperlink" Target="http://www.stopcyberbullying.org/" TargetMode="External"/><Relationship Id="rId3" Type="http://schemas.openxmlformats.org/officeDocument/2006/relationships/hyperlink" Target="http://www.stopcyberbullying.org/" TargetMode="External"/><Relationship Id="rId4" Type="http://schemas.openxmlformats.org/officeDocument/2006/relationships/hyperlink" Target="http://www.stopcyberbullying.org/" TargetMode="External"/><Relationship Id="rId5" Type="http://schemas.openxmlformats.org/officeDocument/2006/relationships/hyperlink" Target="http://www.media-awareness.ca/" TargetMode="External"/><Relationship Id="rId6" Type="http://schemas.openxmlformats.org/officeDocument/2006/relationships/hyperlink" Target="http://www.bullyonline.org/related/cyber.htm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rnetsuperheroes.org/cyberbullying/" TargetMode="External"/><Relationship Id="rId2" Type="http://schemas.openxmlformats.org/officeDocument/2006/relationships/hyperlink" Target="http://www.netsmartz.org/resources/reallife.htm" TargetMode="External"/><Relationship Id="rId3" Type="http://schemas.openxmlformats.org/officeDocument/2006/relationships/hyperlink" Target="http://www.ncpc.org/parents/cyberbullying.php" TargetMode="External"/><Relationship Id="rId4" Type="http://schemas.openxmlformats.org/officeDocument/2006/relationships/hyperlink" Target="http://www.isafe.org/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The New Bullies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464796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Taking action on cyberbullying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811044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ber bullying is everyone’s business and the best response is a pro-active or preventativ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do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 you have in plac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P - Who signs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onsequences if its bro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students report being bul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onymous alternat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ducation is currently being delivered is this are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early is it being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SB:Users:justinm:Desktop:Cyberbullying:BulletinBoard_60.mov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b Site Tools for Help to Combat Cyberbully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d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wiredsafety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stopcyberbullying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org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Awaren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www.media-awareness.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y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www.bullyonline.org/related/cyber.h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6019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uper Her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internetsuperheroes.org/cyberbullyin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Smartz Workshop Real Lif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www.netsmartz.org/resources/reallif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rime Prevention Council - Cyber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.ncpc.org/parents/cyberbullying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www.isafe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4582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ww.cyberbullying.wikispace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280" y="30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0280" y="104760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sources used today can be found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ooking ahead…….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berbullying is harmful to children, and it happens more often than we kn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ors and parents must teach children Cybersafety from an early age so that they can safely interact with others on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and conversations with your child/student is important in deterring and detecting cyberbully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SB:Users:justinm:Desktop:Cyberbullying:cyberbullying_stop_the_pain.mov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SB:Users:justinm:Desktop:Cyberbullying:The_Talent_Show.mov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96920" y="38088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lent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ital Stats</a:t>
            </a:r>
            <a:br>
              <a:rPr sz="44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than 1/3 of teachers surveyed said social networking Web sites have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isrupt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ir school’s learning environ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17524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286000"/>
            <a:ext cx="42670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3143160"/>
            <a:ext cx="3886200" cy="209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032360"/>
            <a:ext cx="2590920" cy="23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876920"/>
            <a:ext cx="2590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5715000"/>
            <a:ext cx="1523880" cy="22860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2057400"/>
            <a:ext cx="25905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% Posting of    R-rate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2% Too much personal information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% Cyber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% They’re wasting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% Creation of fake sites for principals/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010280" y="1905120"/>
            <a:ext cx="762120" cy="7617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3" name=""/>
          <p:cNvSpPr/>
          <p:nvPr/>
        </p:nvSpPr>
        <p:spPr>
          <a:xfrm>
            <a:off x="6477120" y="2743200"/>
            <a:ext cx="1371600" cy="1066680"/>
          </a:xfrm>
          <a:prstGeom prst="irregularSeal1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MI, D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10080" y="3657600"/>
            <a:ext cx="9288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410080" y="4648320"/>
            <a:ext cx="957240" cy="990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191120" y="5346720"/>
            <a:ext cx="1041120" cy="90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27" name=""/>
          <p:cNvSpPr/>
          <p:nvPr/>
        </p:nvSpPr>
        <p:spPr>
          <a:xfrm>
            <a:off x="5668920" y="609300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by a recent National School Boards Assn.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1467" t="0" r="0" b="0"/>
          <a:stretch/>
        </p:blipFill>
        <p:spPr>
          <a:xfrm>
            <a:off x="5334120" y="152280"/>
            <a:ext cx="32004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562720" y="1447920"/>
            <a:ext cx="266688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agirl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Hey, loser, watch your b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mt323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r u talking abou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agirl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Why don't you kill yourself while u r ahead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mt323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y can't you just leave me alon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ivagirl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Ugly girls like u need to be put in their pla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905120"/>
            <a:ext cx="4190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ample of cyberbullying on iChat (Apple’s instant messagin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w common is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yberbullying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middle school students have had their feelings hurt on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have visited a Web site bashing another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have had their password(s) stolen and changed by a b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ly 15% of parents polled knew what cyberbullying w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6095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wiredsafet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0600" y="380880"/>
            <a:ext cx="38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Kitchen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SB:Users:justinm:Desktop:Cyberbullying:Kitchen_Talk.mov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866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5181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How common do you think cyberbullying is at your school?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ake the a few minutes now to talk with two of your colleagues from other districts about the prevalence of cyberbullying taking place among your students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8 Forms of Cyberbullying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ing inflammatory or vulgar words to provoke an online f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a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inually sending vicious, mean, or disturbing e-mails to an 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preading rumors, lies or gossip to hurt a person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u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erso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ting offensive or aggressive messages under another person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8 Forms of Cyberbullying, cont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sting or sharing confidential or compromising information or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k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oling someone into sharing personal information which you then post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rposefully excluding someone from an online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berstal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ngoing harassment and denigration that causes a person considerable fear for his/her saf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3:03:49Z</dcterms:created>
  <dc:creator>Judith Tucker</dc:creator>
  <dc:description/>
  <dc:language>en-US</dc:language>
  <cp:lastModifiedBy>ISB</cp:lastModifiedBy>
  <dcterms:modified xsi:type="dcterms:W3CDTF">2007-09-26T02:01:18Z</dcterms:modified>
  <cp:revision>27</cp:revision>
  <dc:subject/>
  <dc:title>The New Bullies</dc:title>
</cp:coreProperties>
</file>